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55039"/>
        <c:axId val="12345810"/>
      </c:barChart>
      <c:catAx>
        <c:axId val="7405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45810"/>
        <c:crosses val="autoZero"/>
        <c:auto val="1"/>
        <c:lblAlgn val="ctr"/>
        <c:lblOffset val="100"/>
        <c:noMultiLvlLbl val="0"/>
      </c:catAx>
      <c:valAx>
        <c:axId val="12345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5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3A7-442D-4F12-97BA-AEEAA187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F1A-F633-4BB2-8A3D-95F9C7B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456-1CF2-40E2-B19D-F26AF15B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044-8B43-494F-ADE5-A81ED9D6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FB2-EAEB-4850-852D-CF8E249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94B-5349-4D44-A53D-911F2D8E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323-E6DA-40E2-A29E-7400466B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6A5-840B-4022-8FBF-1679F995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A5E-DF1D-4BCF-883B-B31EAE7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BBA-8985-4FAB-8FBD-0BF8E0E1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9C0-91BD-4CCA-85B0-CBF727A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952-5E74-4732-89AA-475421B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8B9A1-21F7-4C89-B67E-51A13AF6E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