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10079"/>
        <c:axId val="41255977"/>
      </c:barChart>
      <c:catAx>
        <c:axId val="75110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55977"/>
        <c:crosses val="autoZero"/>
        <c:auto val="1"/>
        <c:lblAlgn val="ctr"/>
        <c:lblOffset val="100"/>
        <c:noMultiLvlLbl val="0"/>
      </c:catAx>
      <c:valAx>
        <c:axId val="41255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10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AC6-2789-43AF-BE8D-1D054EE4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7B0-091A-4B4C-A95B-555ABF6A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798-405A-41C6-BD65-14DFA118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232-E6EA-4539-B5A0-83D8A384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980-96B5-4B1C-AFD5-1AF396C1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AA7-11EE-4904-8CDD-4E57F46C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C1D1-D61C-4092-B7FE-1790D00F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D4A-014A-4359-A68E-0EBAAD98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0C4A-B3F1-42AE-B9E7-41780E3C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0DF-5E8B-43D0-AB75-21D75914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DC6-94C4-4C48-82EF-D8F45158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77B2-D714-46FA-853D-D52D17E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46E6-9D2C-4AEF-AA57-160F57AC2C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