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4596340"/>
        <c:axId val="13328873"/>
      </c:barChart>
      <c:catAx>
        <c:axId val="2459634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328873"/>
        <c:crosses val="autoZero"/>
        <c:auto val="1"/>
        <c:lblAlgn val="ctr"/>
        <c:lblOffset val="100"/>
        <c:noMultiLvlLbl val="0"/>
      </c:catAx>
      <c:valAx>
        <c:axId val="1332887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59634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9208-1402-4022-A8F7-E5C548AB5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A049-44FC-40E3-8D49-84934CC79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4F44-19F4-45A7-B5B0-D040849A0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0D04-9E14-4BED-89AE-E007EED31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FDE3-5596-4753-8AFB-70DC5090C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E192-5E0E-4259-9D28-D873DB3BC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3607-AB96-46A9-AB4E-77DE7EA49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7A71-6E0A-4687-9CFF-0837436C2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4A01-0577-453B-8AAD-510515BED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C39F-9FF5-49C3-A049-C9201959E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5A8D-06E7-4DAB-AB7A-29A0ECDA2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7018-7332-445E-8D2F-A2F39B7E2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984880-10CD-4DB3-AD8F-416848DACE6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