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77149"/>
        <c:axId val="96956116"/>
      </c:barChart>
      <c:catAx>
        <c:axId val="23177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6116"/>
        <c:crosses val="autoZero"/>
        <c:auto val="1"/>
        <c:lblAlgn val="ctr"/>
        <c:lblOffset val="100"/>
        <c:noMultiLvlLbl val="0"/>
      </c:catAx>
      <c:valAx>
        <c:axId val="969561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77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BCC3-1869-48E1-AF26-63F07504B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A9E-BAE4-46CC-8CED-A3E6748C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C5BA-CF5E-422D-A39E-AA36E61C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4250-26DB-4475-8E0D-96AA62D5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6C15-147E-4633-8417-55313B90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2D3-09AD-4AC1-AF1E-B197A130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40A1-4340-4E35-A3C3-E15FC8F0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3604-F250-47AC-8152-810C0BED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0144-8515-42B8-9AB0-38D7A08B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C87-C731-4144-A906-F179D8CE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5D55-D35D-41A6-AB09-28158A11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F2BF-4980-41CC-BA25-A56B8DFF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22B64-BC41-4412-BD84-044E26B86E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